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jpeg" ContentType="image/jpeg"/>
  <Override PartName="/ppt/media/image3.jpeg" ContentType="image/jpeg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11D-371E-487C-86CB-1F48607C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170-4152-42EA-889A-F1F996BB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978-3A87-43E0-9039-21AD3526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529-7169-4076-8601-1D180659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4828-4814-40D0-A2ED-6725ADE2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F45-8BAE-4D09-A28D-F8FA2050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6134-018D-4FA6-949C-28AF9500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6F3F-0255-4F35-93AC-47778536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A9F2-67F8-4E19-9494-0DB717F9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DF3F-92D4-4E06-9490-BEA3E850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4405-5A79-475C-A030-963B98DB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01F-0ADF-4EBC-83EB-C67FE887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7D39-8E3B-4CB2-B0A7-99F3C8E4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FC7-CBAC-42FD-A46F-60A8F7E7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23C4-E592-40D6-885D-9435A11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7041-2A29-43C6-891A-B9A173D8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E96C-0BB8-45F5-B614-07EFA5DB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A2E-FEA3-49AD-A824-3025CE29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377-6B70-414E-B385-BDDF8562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048-8C8F-46EF-9430-89B18C1D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CA0-E380-4DF1-AB41-B8F974F3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E05-21F9-436C-9526-959D0417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C91-F3C6-4CA8-BB6C-E5F22A9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BD0-C891-4117-AC3D-4E62D28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B506-F24F-4EAA-9802-69E55128C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C2A-E63C-403A-A158-B3ED3241B87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notebook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Variables Worksheet up to be stam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20,670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Final zeroes after a decimal point are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 zero between two significant numbers i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All the zeroes that are left are NOT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4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4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1: Underline all non-zer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2: Underline all zeroes trailing at the end after a decimal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3: Underline all zeroes in between other underlined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4: Cross out anything that’s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ig fi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1: Underline all non-zer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2: Underline all zeroes trailing at the end after a decimal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3: Underline all zeroes in between other underlined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4: Cross out anything that’s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IG FI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ig fi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41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-competition: A sticker to the pair that gets the most right answers!  You may use your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0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,1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,000,000,0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3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up with 10 significant figures problems, at least five must include rounding.  You must know the answers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roblems on a fresh sheet of paper, and an answer key on another piece of paper.  When you’re done, give your “sig fig quiz” to another group to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ir answers when they’r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icker chance)  How many sig figs are in each of thes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.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28,30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,000,000,0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 Figs worksheet, due Friday for B and Monday for 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 Figs Worksheet 1,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ight, you will only be able to 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s #1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Leave problem #3 alone; you’ll be able to do it after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somebody measure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aye-aye ear like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75040" cy="359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275520" cy="639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rot="5400000">
            <a:off x="-786240" y="6881760"/>
            <a:ext cx="62881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chain is no stronger than its weakest link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One bad measurement makes your whole result ba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en you add, subtract, multiply, or divide, you can never get more sig figs than the WORST of the numbers that you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 can each of these answers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x 6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 can each of these answers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7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answer must have 1 sig fig, since that is the worst of the numbers we started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 can each of these answers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7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 sig 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41 x 248,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 can each of these answers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x 67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41 x 248,2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0800 / 0.00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 problem’s answer has too many sig figs or places past the decimal?  You must rou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20 x 673.  We said that the answer must have just one sig fig.  Here’s how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 the operation normally fir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at is 20 x 67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the operation normally first.       20 x 673 = 13,460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 off the number of sig figs that you need, starting from the leftmost significant dig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the operation normally first.       20 x 673 = 13,460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unt off the number of sig figs that you need, starting from the leftmost significant dig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last digit that you count to must be rou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rest that you counted past will stay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ariables Workshe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x 673 = 13,460, which becomes 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9 x 10.8 .  First, what normal answer do you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95 x 10.81 = 96.7495  Next, how many sig figs do we have to get this number down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with the leftmost significant digit (the 9) count off the sig figs you want, going towards the right.  The number you land on is the number to 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ing off 96.7495, we ge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dding and subtrac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87 + 927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/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.4 - 0.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,483 + 94,7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3 x 6.085 x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before, design a “quiz” for an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questions, present a single number and ask how many sig figs it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questions, use multiplication, addi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sion and Accur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the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sted Rulers Analysis, go as far as you can until you hit another (with class)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point of caring about sig fi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cision = How exact your measurem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ificant figures measure precis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more significant figures you have, the more precise your measu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the same thing as being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books out!  Title this section of your notes “Significant Fig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you can begin collecting your data, you need to know the mathematical standards you’ll be held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sion &amp; Accur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curacy = How correct your measuremen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precision, and not measured by sig fig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I mean by that?  Twisted Rulers lab will hopefully illustrate the ide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wisted Rulers Lab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two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ulers amongst groups, use them in any order, just be SURE you record data for the right let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olume s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at the stations.  Learn to read instructions out loud to the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ing the ope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d for: correct sig figs (estimating past digits on rulers, multiplication).  Feel free to check with me on your sig fig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cur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uracy = How correct your measurem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 figs can’t tell you this.  Instead, a procedu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cent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sion &amp; Accur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quation for percent error (write i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bserved Value) - (Expected 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   x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pected 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ientists need to know how strong their measurements are.  We use “significant figures” to show that str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ore significant figures a number has, the stronger the measurement it w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better measurement tools gives you numbers with more sig fi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rules for figuring out how many sig figs there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you want to measure this guy from eartip to eart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75040" cy="359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2755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you want to measure this guy from eartip to eart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75040" cy="359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28812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 you take a measurement, you can estimate one extra digit beyond the ones on the instrument, but no more than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tter ruler gave us a more precis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les!  When you figure out sig figs, always follow these rules in this order.  Let’s practice on this number: 020,670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ll digits NOT zero are always significant fig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21:09:11Z</dcterms:created>
  <dc:creator>Rebecca Stang</dc:creator>
  <dc:description/>
  <dc:language>en-US</dc:language>
  <cp:lastModifiedBy>Rebecca Stang</cp:lastModifiedBy>
  <dcterms:modified xsi:type="dcterms:W3CDTF">2009-09-20T15:08:58Z</dcterms:modified>
  <cp:revision>69</cp:revision>
  <dc:subject/>
  <dc:title>Significant Figures</dc:title>
</cp:coreProperties>
</file>